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548B-0414-4B49-84CB-2ED9653C89E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сихолого-педагогический Факультет</a:t>
            </a:r>
            <a:br>
              <a:rPr sz="1200"/>
            </a:b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29E3-6005-4ECA-B892-6E5DF142A6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езультате обучения В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итес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ть и исследовать психологические проблемы социального взаимодействия людей в конкретных жизненных ситуациях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овать и моделировать социально-психологические явления в процессе массовой коммуник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ет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вык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консультирования в области социально-психологических пробл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с группой и проведения социально-психологического тренин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й работы в сфере массовой коммуникации и рекла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ния социальной психологии и профильных дисциплин в вузе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1B46-96D9-460B-99E2-7896307008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феры деятельности выпускников магистра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научно-исследовательских организациях, учреждениях и центр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сфере образования в качестве преподавателей социальной психологии и практических психологов образ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государственных и частных консультационных пунктах по оказанию психологической помощи и поддержки отдельным лицам или группам людей (психолог-консультант, тренер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качестве специалиста в области анализа и моделирования социально-психологических явлений в массовой коммуникации и реклам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сфере управления в качестве специалиста по регуляции групповых процессов (администратор, руководител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7185-ED62-4C3C-936F-194ADAB59C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АКТЫ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1186 г. Санкт-Петербург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б. р. Мойки, 48,корпус 11, ауд. 4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федра психологи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л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. (812) 571 99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81C5-97ED-4912-8174-D81A3660A4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ь и задачи програм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Цель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специалистов в области социальной психологии человеческих отношений, имеющих углубленную подготовку по проблемам взаимодействия в социальной практике совместной жизнедеятельности люд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дач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ние понятийным аппаратом, описывающим проблемные поля теоретической и прикладной социальной психоло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комство с методологией социально-психологического анализа процессов социального взаимодействия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тение опыта анализа психологических проблем социального взаимодействия людей в конкретных жизненных ситуац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ние функциями научно-исследовательской работы в выбранной специализации и преподавания социальной психологии и профильных дисципли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умений работы с группой и навыков практического применения методов социально-психологического консульт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260D-2467-435F-BACF-49FA5FCB6D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е содержание магистерской програм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Теоретическая ча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, методология, а также современные проблемы науки и производства. Актуальные проблемы социальной психологии. Психология социального взаимодействия. Основные направления практической социальной психологии: промышленное производство, управление, организационное развитие, массовая коммуникация и реклама, школьная психологическая служба и служба сем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Научно-исследовательская рабо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туальные основания психологии социальных отношений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ие основы социального поведения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возрастных взаимодействий и возрастных субкульту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этнический отношений и этнического взаимодейств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жизненных ситу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гендер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рактическая ча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ое консультировани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ласти проблем общения и межличностного взаимодействия; способы работы с трудностями, возникающими у человека как члена различных социальных групп, как больших, так и малых. Социально-психологический тренин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3DD5-2811-4FF8-A4B1-CAC19E66A6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держательная структура програм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образовательная программа подготовки магистра, специалиста в области социальной психологии состоит из основной образовательной программы бакалавра программы специализированной подготовки магистра, которая формиру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сциплин федерального компонен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меющих общую теоретическую и практическую значим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сциплин национально-регионального компонента и специальных дисципл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меющих теоретическую значимость для специалиста в области социальной психолог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сциплин по выбор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е содержательно дополняют дисциплины в каждом цикле,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о-исследовательской рабо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4441-DD2C-4A39-BDCF-F22C53611F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едеральный компонент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ременные проблемы науки и производ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с учетом специфики направления «Психология»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авторы 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нферов В.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, д.п.н., профессор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ецин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И.С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п.н., профессор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сель Ю.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п.н, доцент, доктора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рия и методология науки и производства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с учетом специфики направления «Психология»)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авторы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ремеев Б.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, д.п.н., профессор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килова С.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, к.п.н., доцент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годова С.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, к.п.н., доце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ьютерные технологии в науке и производстве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с учетом специфики направления «Психология»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автор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ляков О.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, к.п.н., доце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C6D4-47CE-4704-8C19-97A6D19FED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ционально-региональный компонент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6224-016D-45D2-88A9-776231430E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ционально-региональный компонент (дисциплины по выбору)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2F1F-A8F2-41D1-BB0F-EC4DEAD862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ециальные дисциплин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сихология социального взаимодейст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Панферов В.Н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п.н., профессор, заведующий кафедрой психологи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Актуальные проблемы социальной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Клецин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И.С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д.п.н., Поссель Ю.А.,  к.п.н., доцен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сихология этнически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икевич З.В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с.н., проф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Методика преподавания социальной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Клецина И.С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п.н., проф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сихология работы с групп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екилова С.А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п.н., доцен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сихологические основы коммун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Терешкина И.Б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п.н., доц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сихология социаль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Безгодова С.А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п.н., доц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Научно-педагогическая практи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Юркова Е.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, к.п.н., доц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Научно-исследовательская практика: Еремеев Б.А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п.н., проф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442C-30E1-4606-A6E9-D1AC25BB0B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ециальные дисциплины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о выбор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ндерная псих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 Клецина И.С., д.п.н., професс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й практику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ы: Барсукова О.В., к.п.н., доц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сультирование в области социально-психологически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 Румянцева П.В., к.п.н, доц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психология массовидных яв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психология рекла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сева Ю.Е. к.п.н. доцент кафедры психологи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CB63-6E7F-4AFB-91BB-4233CFB250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5045-6384-40B4-AAD7-B2FCD994E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88CC-7151-4A96-B438-725B7043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DD18-4298-4847-A8F3-3E292A7F9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A9D9-7E1D-49C3-9356-46C1D18CB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F7A5-30D4-4ACC-AC2E-18162D335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6E7F-B015-4B2D-8122-0D528508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C3DA-7156-49E1-9E8B-EEB3DA7B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9F7B-E7D3-4EC5-AA8C-9A0EB74B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4550-239C-4C20-BF94-117C3192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FF9F-7258-4A0A-A7BC-C2C58E57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D491-2B78-43B5-9D76-6ACC42D5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9528-EB19-447F-AC08-2F9326AB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9B41-18DD-409B-B636-1EEB47FA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413E-7511-42F7-9F87-D8893339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A45F-9EEA-4710-A167-940A869C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A0E2-05B9-491F-A004-E7448FE29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7A31-8C41-4B4B-A0CB-BC6D93773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5A59-60A6-4E10-8565-9B973046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940B-E2CB-4E77-BC32-2E2B1F50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BA1A-47E2-4B37-BD79-1432928C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60CC-A792-4AA6-BC76-BCCF16C0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CB3A-EF42-4CD8-8400-F6AA087F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E357-608F-40E2-ABDA-29A098B8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9B10-34A5-472D-A946-5FFAB2C6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EC5F-5A7F-45B2-9F0A-A34067B98D1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8A21-A1BF-4127-9080-B0B12A2653F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3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2193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сихолого-педагогический Факультет</a:t>
            </a: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8580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1"/>
          <p:cNvSpPr/>
          <p:nvPr/>
        </p:nvSpPr>
        <p:spPr>
          <a:xfrm>
            <a:off x="2286000" y="4038480"/>
            <a:ext cx="559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ЦИАЛЬНА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СИХОЛОГ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гистерская программ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результате обучения В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учитес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ть и исследовать психологические проблемы социального взаимодействия людей в конкретных жизненных ситуациях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ировать и моделировать социально-психологические явления в процессе массовой коммуник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владеет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вык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логического консультирования в области социально-психологических пробле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ы с группой и проведения социально-психологического тренинг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ктической работы в сфере массовой коммуникации и рекла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подавания социальной психологии и профильных дисциплин в вузе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феры деятельности выпускников магистрат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в научно-исследовательских организациях, учреждениях и центр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в сфере образования в качестве преподавателей социальной психологии и практических психологов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в государственных и частных консультационных пунктах по оказанию психологической помощи и поддержки отдельным лицам или группам людей (психолог-консультант, тренер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в качестве специалиста в области анализа и моделирования социально-психологических явлений в массовой коммуникации и рекла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в сфере управления в качестве специалиста по регуляции групповых процессов (администратор, руководител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КОНТАКТЫ: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1186 г. Санкт-Петербур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б. р. Мойки, 48,корпус 11, ауд. 4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федра психологии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л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. (812) 571 9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Цель и задачи программы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готовка специалистов в области социальной психологии человеческих отношений, имеющих углубленную подготовку по проблемам взаимодействия в социальной практике совместной жизнедеятельности люд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владение понятийным аппаратом, описывающим проблемные поля теоретической и прикладной социальной психолог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омство с методологией социально-психологического анализа процессов социального взаимодействия люд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обретение опыта анализа психологических проблем социального взаимодействия людей в конкретных жизненных ситуация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владение функциями научно-исследовательской работы в выбранной специализации и преподавания социальной психологии и профильных дисципли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ирование умений работы с группой и навыков практического применения методов социально-психологического консультир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ое содержание магистерской програм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оретическ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тория, методология, а также современные проблемы науки и производства. Актуальные проблемы социальной психологии. Психология социального взаимодействия. Основные направления практической социальной психологии: промышленное производство, управление, организационное развитие, массовая коммуникация и реклама, школьная психологическая служба и служба семь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учно-исследовательск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цептуальные основания психологии социальных отношений люд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логические основы социального поведения люд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логия возрастных взаимодействий и возрастных субкультур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логия этнический отношений и этнического взаимодейств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логия жизненных ситуа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логия гендерных отнош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актическ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циально-психологическое консультирование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бласти проблем общения и межличностного взаимодействия; способы работы с трудностями, возникающими у человека как члена различных социальных групп, как больших, так и малых. Социально-психологический тренин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держательная структура программ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55640" y="1700280"/>
            <a:ext cx="7920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ая образовательная программа подготовки магистра, специалиста в области социальной психологии состоит из основной образовательной программы бакалавра программы специализированной подготовки магистра, которая формиру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</a:t>
            </a:r>
            <a:r>
              <a:rPr b="0" lang="ru-RU" sz="2000" spc="-1" strike="noStrike" u="sng">
                <a:solidFill>
                  <a:srgbClr val="5a84d8"/>
                </a:solidFill>
                <a:uFillTx/>
                <a:latin typeface="Arial"/>
                <a:hlinkClick r:id="rId1" action="ppaction://hlinksldjump"/>
              </a:rPr>
              <a:t>дисциплин федерального компонен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меющих общую теоретическую и практическую значим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</a:t>
            </a:r>
            <a:r>
              <a:rPr b="0" lang="ru-RU" sz="2000" spc="-1" strike="noStrike" u="sng">
                <a:solidFill>
                  <a:srgbClr val="5a84d8"/>
                </a:solidFill>
                <a:uFillTx/>
                <a:latin typeface="Arial"/>
                <a:hlinkClick r:id="rId2" action="ppaction://hlinksldjump"/>
              </a:rPr>
              <a:t>дисциплин национально-регионального компонент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специальных дисципл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меющих теоретическую значимость для специалиста в области социальной психолог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циплин по выбор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е содержательно дополняют дисциплины в каждом цикле,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учно-исследовательской рабо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Федеральный компонент: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20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ременные проблемы науки и производ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 учетом специфики направления «Психология»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авторы 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нферов В.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, д.п.н., профессор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ецин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И.С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.п.н., профессор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сель Ю.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.п.н, доцент, докторан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рия и методология науки и производств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 учетом специфики направления «Психология»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авторы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ремеев Б.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, д.п.н., профессор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килова С.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, к.п.н., доцент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годова С.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, к.п.н., доцен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ьютерные технологии в науке и производств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 учетом специфики направления «Психология»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автор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ляков О.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, к.п.н., доцен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611280" y="5805360"/>
            <a:ext cx="649080" cy="503280"/>
          </a:xfrm>
          <a:prstGeom prst="leftArrow">
            <a:avLst>
              <a:gd name="adj1" fmla="val 50000"/>
              <a:gd name="adj2" fmla="val 32242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Национально-региональный компонент: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684360" y="1557360"/>
            <a:ext cx="2439720" cy="18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сихология социальной идентич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мянцева П.В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п.н., доц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федры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4859280" y="1628640"/>
            <a:ext cx="252108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сихология возрастного взаимо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кляева А.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, к.п.н, доцент кафедры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Mikljaeva"/>
          <p:cNvPicPr/>
          <p:nvPr/>
        </p:nvPicPr>
        <p:blipFill>
          <a:blip r:embed="rId1"/>
          <a:stretch/>
        </p:blipFill>
        <p:spPr>
          <a:xfrm>
            <a:off x="7524720" y="1700280"/>
            <a:ext cx="1212840" cy="12621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3"/>
          <p:cNvSpPr/>
          <p:nvPr/>
        </p:nvSpPr>
        <p:spPr>
          <a:xfrm>
            <a:off x="2340000" y="4149720"/>
            <a:ext cx="223200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сихология жизненных ситу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ржова Е.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, д.п.н., професс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4" descr="Korzhova"/>
          <p:cNvPicPr/>
          <p:nvPr/>
        </p:nvPicPr>
        <p:blipFill>
          <a:blip r:embed="rId2"/>
          <a:stretch/>
        </p:blipFill>
        <p:spPr>
          <a:xfrm>
            <a:off x="826920" y="4221000"/>
            <a:ext cx="1306800" cy="1570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Vekilova"/>
          <p:cNvPicPr/>
          <p:nvPr/>
        </p:nvPicPr>
        <p:blipFill>
          <a:blip r:embed="rId3"/>
          <a:stretch/>
        </p:blipFill>
        <p:spPr>
          <a:xfrm>
            <a:off x="4648320" y="4191120"/>
            <a:ext cx="1600200" cy="15238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6"/>
          <p:cNvSpPr/>
          <p:nvPr/>
        </p:nvSpPr>
        <p:spPr>
          <a:xfrm>
            <a:off x="6477120" y="4114800"/>
            <a:ext cx="223200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сихология семейных отнош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килова С.А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п.н., доцент кафедры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2"/>
          <p:cNvSpPr/>
          <p:nvPr/>
        </p:nvSpPr>
        <p:spPr>
          <a:xfrm>
            <a:off x="7956720" y="6165720"/>
            <a:ext cx="647640" cy="432000"/>
          </a:xfrm>
          <a:prstGeom prst="rightArrow">
            <a:avLst>
              <a:gd name="adj1" fmla="val 50000"/>
              <a:gd name="adj2" fmla="val 37479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4" descr="Румянцева"/>
          <p:cNvPicPr/>
          <p:nvPr/>
        </p:nvPicPr>
        <p:blipFill>
          <a:blip r:embed="rId4"/>
          <a:stretch/>
        </p:blipFill>
        <p:spPr>
          <a:xfrm>
            <a:off x="3124080" y="1676520"/>
            <a:ext cx="1319400" cy="19825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ционально-региональный компонент (дисциплины по выбору)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4038480" y="2362320"/>
            <a:ext cx="449604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сихология социального поведения личн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сель Ю.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, к.п.н., доцент кафедры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етоды и процедуры социально-психологических исследов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нова З.Ф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, к.п.н., доцент кафедры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2"/>
          <p:cNvSpPr/>
          <p:nvPr/>
        </p:nvSpPr>
        <p:spPr>
          <a:xfrm>
            <a:off x="395280" y="6021360"/>
            <a:ext cx="649440" cy="503280"/>
          </a:xfrm>
          <a:prstGeom prst="leftArrow">
            <a:avLst>
              <a:gd name="adj1" fmla="val 50000"/>
              <a:gd name="adj2" fmla="val 32260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5" descr="Семенова"/>
          <p:cNvPicPr/>
          <p:nvPr/>
        </p:nvPicPr>
        <p:blipFill>
          <a:blip r:embed="rId1"/>
          <a:stretch/>
        </p:blipFill>
        <p:spPr>
          <a:xfrm>
            <a:off x="1905120" y="3733920"/>
            <a:ext cx="1752480" cy="24382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2"/>
          <p:cNvSpPr/>
          <p:nvPr/>
        </p:nvSpPr>
        <p:spPr>
          <a:xfrm>
            <a:off x="333864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1" descr="Rotation of DSC_0079"/>
          <p:cNvPicPr/>
          <p:nvPr/>
        </p:nvPicPr>
        <p:blipFill>
          <a:blip r:embed="rId2"/>
          <a:stretch/>
        </p:blipFill>
        <p:spPr>
          <a:xfrm>
            <a:off x="685800" y="1600200"/>
            <a:ext cx="1690560" cy="253836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Специальные дисциплины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5" descr="Rotation of DSC_0047"/>
          <p:cNvPicPr/>
          <p:nvPr/>
        </p:nvPicPr>
        <p:blipFill>
          <a:blip r:embed="rId1"/>
          <a:stretch/>
        </p:blipFill>
        <p:spPr>
          <a:xfrm>
            <a:off x="5791320" y="1143000"/>
            <a:ext cx="1454040" cy="21891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685800" y="1600200"/>
            <a:ext cx="5486400" cy="48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сихология социального взаимодей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Панферов В.Н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п.н., профессор, заведующий кафедрой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Актуальные проблемы социальной псих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лецин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И.С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д.п.н., Поссель Ю.А.,  к.п.н., доц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сихология этнических отно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икевич З.В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с.н., професс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Методика преподавания социальной псих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лецина И.С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п.н., професс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сихология работы с групп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екилова С.А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п.н., доцен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сихологические основы коммун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Терешкина И.Б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п.н., доц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сихология социальных отно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езгодова С.А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п.н., доц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Научно-педагогическая практик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ркова Е.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, к.п.н., доц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Научно-исследовательская практика: Еремеев Б.А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п.н., професс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8"/>
          <p:cNvSpPr/>
          <p:nvPr/>
        </p:nvSpPr>
        <p:spPr>
          <a:xfrm>
            <a:off x="7956720" y="6165720"/>
            <a:ext cx="647640" cy="432000"/>
          </a:xfrm>
          <a:prstGeom prst="rightArrow">
            <a:avLst>
              <a:gd name="adj1" fmla="val 50000"/>
              <a:gd name="adj2" fmla="val 37479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3" descr="Лена Юркова"/>
          <p:cNvPicPr/>
          <p:nvPr/>
        </p:nvPicPr>
        <p:blipFill>
          <a:blip r:embed="rId2"/>
          <a:stretch/>
        </p:blipFill>
        <p:spPr>
          <a:xfrm>
            <a:off x="6553080" y="2362320"/>
            <a:ext cx="1113120" cy="1676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6" descr="Panferov"/>
          <p:cNvPicPr/>
          <p:nvPr/>
        </p:nvPicPr>
        <p:blipFill>
          <a:blip r:embed="rId3"/>
          <a:stretch/>
        </p:blipFill>
        <p:spPr>
          <a:xfrm>
            <a:off x="7315200" y="762120"/>
            <a:ext cx="1666800" cy="16761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0"/>
          <p:cNvSpPr/>
          <p:nvPr/>
        </p:nvSpPr>
        <p:spPr>
          <a:xfrm>
            <a:off x="3514680" y="18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9" descr="Re-exposure of Rotation of DSC_0109"/>
          <p:cNvPicPr/>
          <p:nvPr/>
        </p:nvPicPr>
        <p:blipFill>
          <a:blip r:embed="rId4"/>
          <a:stretch/>
        </p:blipFill>
        <p:spPr>
          <a:xfrm>
            <a:off x="7620120" y="3505320"/>
            <a:ext cx="1371600" cy="1981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2" descr="Eremejev"/>
          <p:cNvPicPr/>
          <p:nvPr/>
        </p:nvPicPr>
        <p:blipFill>
          <a:blip r:embed="rId5"/>
          <a:stretch/>
        </p:blipFill>
        <p:spPr>
          <a:xfrm>
            <a:off x="7620120" y="5029200"/>
            <a:ext cx="1368360" cy="1440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3" descr="Tereshkina"/>
          <p:cNvPicPr/>
          <p:nvPr/>
        </p:nvPicPr>
        <p:blipFill>
          <a:blip r:embed="rId6"/>
          <a:stretch/>
        </p:blipFill>
        <p:spPr>
          <a:xfrm>
            <a:off x="7696080" y="2286000"/>
            <a:ext cx="1287720" cy="1174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4" descr="Vekilova"/>
          <p:cNvPicPr/>
          <p:nvPr/>
        </p:nvPicPr>
        <p:blipFill>
          <a:blip r:embed="rId7"/>
          <a:stretch/>
        </p:blipFill>
        <p:spPr>
          <a:xfrm>
            <a:off x="5486400" y="3429000"/>
            <a:ext cx="1371600" cy="1324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5" descr="Bezgodova"/>
          <p:cNvPicPr/>
          <p:nvPr/>
        </p:nvPicPr>
        <p:blipFill>
          <a:blip r:embed="rId8"/>
          <a:stretch/>
        </p:blipFill>
        <p:spPr>
          <a:xfrm>
            <a:off x="5715000" y="4952880"/>
            <a:ext cx="1224000" cy="1492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6" descr="Possel"/>
          <p:cNvPicPr/>
          <p:nvPr/>
        </p:nvPicPr>
        <p:blipFill>
          <a:blip r:embed="rId9"/>
          <a:stretch/>
        </p:blipFill>
        <p:spPr>
          <a:xfrm>
            <a:off x="6705720" y="4114800"/>
            <a:ext cx="1055520" cy="136692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Специальные дисциплины 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(по выбору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09480" y="2438280"/>
            <a:ext cx="54723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ндерная психолог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Клецина И.С., д.п.н., професс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о-психологический практику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ы: Барсукова О.В., к.п.н., доц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сультирование в области социально-психологических проб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Румянцева П.В., к.п.н, доц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ая психология массовидных я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ая психология рекла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сева Ю.Е. к.п.н. доцент кафедры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1" descr="Гусева"/>
          <p:cNvPicPr/>
          <p:nvPr/>
        </p:nvPicPr>
        <p:blipFill>
          <a:blip r:embed="rId1"/>
          <a:stretch/>
        </p:blipFill>
        <p:spPr>
          <a:xfrm>
            <a:off x="7543800" y="4114800"/>
            <a:ext cx="1163520" cy="1752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4" descr="Rumjanzeva"/>
          <p:cNvPicPr/>
          <p:nvPr/>
        </p:nvPicPr>
        <p:blipFill>
          <a:blip r:embed="rId2"/>
          <a:stretch/>
        </p:blipFill>
        <p:spPr>
          <a:xfrm>
            <a:off x="5715000" y="3581280"/>
            <a:ext cx="1608120" cy="1600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5" descr="Barsukova"/>
          <p:cNvPicPr/>
          <p:nvPr/>
        </p:nvPicPr>
        <p:blipFill>
          <a:blip r:embed="rId3"/>
          <a:stretch/>
        </p:blipFill>
        <p:spPr>
          <a:xfrm>
            <a:off x="7238880" y="1981080"/>
            <a:ext cx="1447920" cy="17575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6" descr="Klezina"/>
          <p:cNvPicPr/>
          <p:nvPr/>
        </p:nvPicPr>
        <p:blipFill>
          <a:blip r:embed="rId4"/>
          <a:stretch/>
        </p:blipFill>
        <p:spPr>
          <a:xfrm>
            <a:off x="5410080" y="1676520"/>
            <a:ext cx="1597320" cy="15192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6:32:14Z</dcterms:created>
  <dc:creator>Marina</dc:creator>
  <dc:description/>
  <dc:language>en-US</dc:language>
  <cp:lastModifiedBy>LEGION</cp:lastModifiedBy>
  <dcterms:modified xsi:type="dcterms:W3CDTF">2014-11-12T07:39:16Z</dcterms:modified>
  <cp:revision>88</cp:revision>
  <dc:subject/>
  <dc:title>РОССИЙСКИЙ ГОСУДАРСТВЕННЫЙ ПЕДАГОГИЧЕСКИЙ УНИВЕРСИТЕТ  ИМ. А.И. ГЕРЦЕ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